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B9A6B-B3AE-4C73-A310-1D289BE6E34F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AD3A-1456-443E-A4A2-97E4E312ADB4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0913F-C6A2-430C-AF01-156A67BAA69E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risma 2009 flow dia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2BFD-6AC1-419E-BBE2-E87CFEFEA266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hilips quality appraisal—absolute numbers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A8576-6C86-436E-B9E1-4BA0A85C7356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Caro quality appraisal—absolute number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Economic Evaluations of Multicomponent Disease Management Programs with Markov Models: A Systematic Review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Florian Kirsch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jval.2016.07.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69920" y="762120"/>
            <a:ext cx="525492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584360"/>
            <a:ext cx="6350040" cy="33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22360" y="1581120"/>
            <a:ext cx="6350040" cy="334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uner, Katrin</dc:creator>
  <dc:description/>
  <dc:language>en-US</dc:language>
  <cp:lastModifiedBy>katrin.rauner</cp:lastModifiedBy>
  <dcterms:modified xsi:type="dcterms:W3CDTF">2016-10-17T10:27:08Z</dcterms:modified>
  <cp:revision>1</cp:revision>
  <dc:subject/>
  <dc:title>PowerPoint-Präsentation</dc:title>
</cp:coreProperties>
</file>